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9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A741-A439-4942-8775-A2D1FC3B7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2498-C692-4119-AC67-7CBFE88B7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F1EA-11D0-4F75-B9F1-271BF7862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D44D-03E8-4EE3-AA7C-603B71CD3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3D6DA-75C8-49C0-8A39-78D28E54C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0FA85-1514-476A-B00E-FD6C768A4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C4784-4BF7-4655-A41C-A4E3B371B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2354E-4598-4D9F-A64A-03E575D9B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CAAA4-108C-461F-BFE0-7286FF84C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A66D9-706E-40B2-B87B-3DF49B660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5D14F-C256-49E7-B55D-11560ED53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2B42-6084-4842-A278-145052DFB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D1297-859C-4F86-8DDA-EE1AC818A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8770F-38BE-4E92-9C4D-E9351DA24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92450-D719-4E72-8377-E2C2B5CA6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011C5-5D26-40F4-B1C1-09F50B208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1B932-AF91-497C-ACF6-45497FF16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D2DC-C16F-4FF3-A8B1-B5BC9468A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EE63-D664-4A98-B8EF-130BE3740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9CB1-0A49-4B92-AC60-95053F0B1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E81B-B90C-442F-AD37-026F91006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5D18-FFF8-4B96-BB20-39486AC7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DA13-EFE9-45D1-BB1A-09DD0A82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863A-A214-4CB6-A2B1-6850E2E7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25F4B-3A79-4866-A6FE-D142998013DE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BCBB3-A9B9-40DE-975A-F4C12C6EE6F9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f7d47d"/>
                </a:solidFill>
                <a:latin typeface="BlackChancery"/>
              </a:rPr>
              <a:t>Genetics</a:t>
            </a:r>
            <a:endParaRPr b="0" lang="en-US" sz="11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Garamond"/>
              </a:rPr>
              <a:t>Chapter 11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676520" y="228600"/>
            <a:ext cx="533376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9af7d"/>
                </a:solidFill>
                <a:latin typeface="BlackChancery"/>
              </a:rPr>
              <a:t>Mendel’s Two Conclusions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7d47d"/>
                </a:solidFill>
                <a:latin typeface="Garamond"/>
              </a:rPr>
              <a:t>Biological inheritance is determined by factors that are passed from one generation to the next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7d47d"/>
                </a:solidFill>
                <a:uFillTx/>
                <a:latin typeface="Garamond"/>
              </a:rPr>
              <a:t>Genes</a:t>
            </a:r>
            <a:r>
              <a:rPr b="0" lang="en-US" sz="3600" spc="-1" strike="noStrike">
                <a:solidFill>
                  <a:srgbClr val="f7d47d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f7d47d"/>
                </a:solidFill>
                <a:latin typeface="Garamond"/>
              </a:rPr>
              <a:t> chemical factors that determine traits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Garamond"/>
              </a:rPr>
              <a:t>Genes have two contrasting forms: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lvl="2" marL="982800" indent="-19656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Garamond"/>
              </a:rPr>
              <a:t>the different forms of the gene are called </a:t>
            </a:r>
            <a:r>
              <a:rPr b="1" lang="en-US" sz="3600" spc="-1" strike="noStrike" u="sng">
                <a:solidFill>
                  <a:srgbClr val="f7d47d"/>
                </a:solidFill>
                <a:uFillTx/>
                <a:latin typeface="Garamond"/>
              </a:rPr>
              <a:t>alleles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263520" y="380520"/>
            <a:ext cx="7386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Garamond"/>
              </a:rPr>
              <a:t>Principle of Dominance: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7d47d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7d47d"/>
                </a:solidFill>
                <a:latin typeface="Garamond"/>
              </a:rPr>
              <a:t>some alleles are dominant and </a:t>
            </a:r>
            <a:r>
              <a:rPr b="0" lang="en-US" sz="4000" spc="-1" strike="noStrike">
                <a:solidFill>
                  <a:srgbClr val="f7d47d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7d47d"/>
                </a:solidFill>
                <a:latin typeface="Garamond"/>
              </a:rPr>
              <a:t>others are recessive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7d47d"/>
                </a:solidFill>
                <a:uFillTx/>
                <a:latin typeface="Garamond"/>
              </a:rPr>
              <a:t>Dominant allele</a:t>
            </a:r>
            <a:r>
              <a:rPr b="0" lang="en-US" sz="4000" spc="-1" strike="noStrike">
                <a:solidFill>
                  <a:srgbClr val="f7d47d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f7d47d"/>
                </a:solidFill>
                <a:latin typeface="Garamond"/>
              </a:rPr>
              <a:t> if present will express itself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7d47d"/>
                </a:solidFill>
                <a:uFillTx/>
                <a:latin typeface="Garamond"/>
              </a:rPr>
              <a:t>Recessive allele</a:t>
            </a:r>
            <a:r>
              <a:rPr b="0" lang="en-US" sz="4000" spc="-1" strike="noStrike">
                <a:solidFill>
                  <a:srgbClr val="f7d47d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f7d47d"/>
                </a:solidFill>
                <a:latin typeface="Garamond"/>
              </a:rPr>
              <a:t> will only express itself if dominant allele is not present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263520" y="1676520"/>
            <a:ext cx="73864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7d47d"/>
                </a:solidFill>
                <a:uFillTx/>
                <a:latin typeface="Garamond"/>
              </a:rPr>
              <a:t>Genetics</a:t>
            </a:r>
            <a:r>
              <a:rPr b="0" lang="en-US" sz="4000" spc="-1" strike="noStrike">
                <a:solidFill>
                  <a:srgbClr val="f7d47d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f7d47d"/>
                </a:solidFill>
                <a:latin typeface="Garamond"/>
              </a:rPr>
              <a:t> scientific study of heredity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Garamond"/>
              </a:rPr>
              <a:t>Every living thing has a set of characteristics inherited from its parent or parents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981080" y="304920"/>
            <a:ext cx="476748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9af7d"/>
                </a:solidFill>
                <a:latin typeface="BlackChancery"/>
              </a:rPr>
              <a:t>Gregor Mendel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80520" y="2895120"/>
            <a:ext cx="7356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Garamond"/>
              </a:rPr>
              <a:t>1822 – 1884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Garamond"/>
              </a:rPr>
              <a:t>Austrain monk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Garamond"/>
              </a:rPr>
              <a:t>In charge of the botanical garden at the monestar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Garamond"/>
              </a:rPr>
              <a:t>Studied science at the University of Vienna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f7d47d"/>
                </a:solidFill>
                <a:latin typeface="Garamond"/>
              </a:rPr>
              <a:t>father of modern genetics”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5257800" y="304920"/>
            <a:ext cx="22683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263520" y="456840"/>
            <a:ext cx="7386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Garamond"/>
              </a:rPr>
              <a:t>Worked with garden pea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Garamond"/>
              </a:rPr>
              <a:t>Mendel first worked with </a:t>
            </a:r>
            <a:r>
              <a:rPr b="0" lang="en-US" sz="2800" spc="-1" strike="noStrike" u="sng">
                <a:solidFill>
                  <a:srgbClr val="f7d47d"/>
                </a:solidFill>
                <a:uFillTx/>
                <a:latin typeface="Garamond"/>
              </a:rPr>
              <a:t>true-breeding</a:t>
            </a:r>
            <a:r>
              <a:rPr b="0" lang="en-US" sz="2800" spc="-1" strike="noStrike">
                <a:solidFill>
                  <a:srgbClr val="f7d47d"/>
                </a:solidFill>
                <a:latin typeface="Garamond"/>
              </a:rPr>
              <a:t> plants that self-pollinated to produce plants that looked exactly like them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Garamond"/>
              </a:rPr>
              <a:t>In order to control breeding between the pea plants, Mendel cut off the male parts of the flower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Garamond"/>
              </a:rPr>
              <a:t>He then used a paintbrush to </a:t>
            </a:r>
            <a:r>
              <a:rPr b="0" lang="en-US" sz="2800" spc="-1" strike="noStrike" u="sng">
                <a:solidFill>
                  <a:srgbClr val="f7d47d"/>
                </a:solidFill>
                <a:uFillTx/>
                <a:latin typeface="Garamond"/>
              </a:rPr>
              <a:t>cross pollinate</a:t>
            </a:r>
            <a:r>
              <a:rPr b="0" lang="en-US" sz="2800" spc="-1" strike="noStrike">
                <a:solidFill>
                  <a:srgbClr val="f7d47d"/>
                </a:solidFill>
                <a:latin typeface="Garamond"/>
              </a:rPr>
              <a:t> the pea plants to see what kinds of offspring would be produced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371600" y="228600"/>
            <a:ext cx="61056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9af7d"/>
                </a:solidFill>
                <a:latin typeface="BlackChancery"/>
              </a:rPr>
              <a:t>Mendel’s Traits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236016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Garamond"/>
              </a:rPr>
              <a:t>Mendel studied 7 different contrasting traits of the pea plant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7d47d"/>
                </a:solidFill>
                <a:uFillTx/>
                <a:latin typeface="Garamond"/>
              </a:rPr>
              <a:t>Trait</a:t>
            </a:r>
            <a:r>
              <a:rPr b="0" lang="en-US" sz="3600" spc="-1" strike="noStrike">
                <a:solidFill>
                  <a:srgbClr val="f7d47d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f7d47d"/>
                </a:solidFill>
                <a:latin typeface="Garamond"/>
              </a:rPr>
              <a:t> specific characteristic that varies from one individual to another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523880" y="304920"/>
            <a:ext cx="5788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00:26:16Z</dcterms:created>
  <dc:creator> Kari Widdoes</dc:creator>
  <dc:description/>
  <dc:language>en-US</dc:language>
  <cp:lastModifiedBy>NHS</cp:lastModifiedBy>
  <dcterms:modified xsi:type="dcterms:W3CDTF">2007-02-14T14:28:01Z</dcterms:modified>
  <cp:revision>4</cp:revision>
  <dc:subject/>
  <dc:title>Genetics</dc:title>
</cp:coreProperties>
</file>